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97826"/>
        <c:axId val="63663349"/>
      </c:barChart>
      <c:catAx>
        <c:axId val="97297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3349"/>
        <c:crosses val="autoZero"/>
        <c:auto val="1"/>
        <c:lblAlgn val="ctr"/>
        <c:lblOffset val="100"/>
        <c:noMultiLvlLbl val="0"/>
      </c:catAx>
      <c:valAx>
        <c:axId val="63663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97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06B-CB53-4DCE-9F32-8300CAE0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ABF-4071-4F04-A0D9-B7ABA68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CF9-C77E-46D1-A2DD-CD4DC409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3F3-5E98-4E6B-9152-86722DBB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B78-575D-40AF-B494-F34CF65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EA0-BD15-4513-AC1D-CB2F19C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221-8815-4682-AEC7-6908111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0A8-BFB5-4859-A5C3-20451C7A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8E6-6F57-49AF-BB7D-60E4E6E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C89-A400-4F07-B03C-CA44F3E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FB1-2080-4C4A-A0BE-A5A8540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51A-0F2D-45EF-A085-91C7076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5751-2D34-4373-9965-30A36AB1B2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