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45599"/>
        <c:axId val="40475363"/>
      </c:barChart>
      <c:catAx>
        <c:axId val="67245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75363"/>
        <c:crosses val="autoZero"/>
        <c:auto val="1"/>
        <c:lblAlgn val="ctr"/>
        <c:lblOffset val="100"/>
        <c:noMultiLvlLbl val="0"/>
      </c:catAx>
      <c:valAx>
        <c:axId val="40475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5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6B7-33A8-4E6F-8237-46CED071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C44-7DB0-4597-B85D-789813B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78E-0CC5-43D2-83C7-88A02BB8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6B1-AD46-4B25-8536-95956A2A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3FA-63E6-4B6A-8F10-6239C86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7AD-7C26-4137-9924-8E9C4B5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650-4288-4945-AC3A-EFD7817B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D65-658B-4865-BE9E-A674A4F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F89-1C5E-4DAB-9B40-8669C42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58E-138D-4385-8C2D-6D297D5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C1F-A56D-430F-8E00-B5700FF4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85D-68A8-4234-9518-21059A60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4127A-8D1D-4C65-99AC-76535EB46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