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16133"/>
        <c:axId val="14463622"/>
      </c:barChart>
      <c:catAx>
        <c:axId val="86916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63622"/>
        <c:crosses val="autoZero"/>
        <c:auto val="1"/>
        <c:lblAlgn val="ctr"/>
        <c:lblOffset val="100"/>
        <c:noMultiLvlLbl val="0"/>
      </c:catAx>
      <c:valAx>
        <c:axId val="14463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16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890-E055-4F7D-80EF-4BE409B1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E26-60DE-492A-8D50-1A93FA98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B11-8790-4389-95E4-41DAF451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9B3-E272-4A25-AAA7-B4CD4005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5A3-289F-42A6-B2EC-6FC29ADC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FF2-6ECB-4915-90B6-F6ECCC16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29F-ABA7-4C09-B141-44009730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734-F00C-4042-8F68-4C20E6C6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37C-3E32-4FD9-B0CC-65B9D9B7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C25-0231-42A5-A58C-A39F4D3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7D9-B4B8-45C7-BB03-44DA4BC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9B7D-59B9-4DC0-A67E-DFD6EFC2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3069C-B886-4112-BE9E-26D2C0526F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