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23009"/>
        <c:axId val="42785689"/>
      </c:barChart>
      <c:catAx>
        <c:axId val="156230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785689"/>
        <c:crosses val="autoZero"/>
        <c:auto val="1"/>
        <c:lblAlgn val="ctr"/>
        <c:lblOffset val="100"/>
        <c:noMultiLvlLbl val="0"/>
      </c:catAx>
      <c:valAx>
        <c:axId val="427856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230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60C7-8FDD-426B-AD91-BC79C30A8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EEB4-1970-4FED-A933-283E178B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64AE-9987-4985-B341-FBECC0D65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FB86-D37B-4F1B-A84A-28E0A0C8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1616-9E9A-4375-9407-B45A74FB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0970-2AC8-4BBC-A6C4-BB34716C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5E56-7D1A-4E69-A123-54E6381D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F8DC-045C-4230-B5BC-61D133AA4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DB5F-8C4C-4040-AB5B-8E92160F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450E-B987-4B2E-B45D-30854C2C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4B82-379B-4973-A14C-55B6F538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3ABF-80D7-4082-96E5-1C44BDB5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BBDC21-5E78-48F8-AD55-B0F35876B3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