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49764"/>
        <c:axId val="47085122"/>
      </c:barChart>
      <c:catAx>
        <c:axId val="36649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85122"/>
        <c:crosses val="autoZero"/>
        <c:auto val="1"/>
        <c:lblAlgn val="ctr"/>
        <c:lblOffset val="100"/>
        <c:noMultiLvlLbl val="0"/>
      </c:catAx>
      <c:valAx>
        <c:axId val="47085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49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A74-517E-4A3A-8829-BBFE7B59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0F0-6FDD-411C-8008-69B21E86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905-708A-47D1-B48C-0B17E0B6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323-7CCD-4714-94FC-3A1785C5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2CB-496D-4496-B2EE-DE01B2BF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006-6F7E-4D5A-85A2-7D509E02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101-1D64-4ABB-B085-E01E11DC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DFC-3329-4A85-94BD-354164A3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F19-13EA-4EC5-BB0B-F982B54E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120-1768-4106-AB96-4485CF21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B30-633D-4BA9-866F-031AA0B5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7FB-3EEA-4295-9DF5-3A2D9C8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9D6F8-FB69-4530-82B1-E44518ADA2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