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85503"/>
        <c:axId val="67988203"/>
      </c:barChart>
      <c:catAx>
        <c:axId val="94485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88203"/>
        <c:crosses val="autoZero"/>
        <c:auto val="1"/>
        <c:lblAlgn val="ctr"/>
        <c:lblOffset val="100"/>
        <c:noMultiLvlLbl val="0"/>
      </c:catAx>
      <c:valAx>
        <c:axId val="679882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85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DA9F-4E29-45A7-80DA-8809043C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C2F-63AD-4264-8F12-E082C30C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17F4-0062-4E1A-875B-A0F0A432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A0B2-9469-4E89-8F4C-6EC01F12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853-CCD4-459C-A875-E664BA25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1B2-9B96-44EC-9925-3A87EFE4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E0CF-C029-4BE5-8FFA-1C01BBD7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630B-9F18-4194-9D8E-3D24939A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172-FB02-4E66-8B12-6DCD1E46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A8ED-2993-4E48-AC31-CC12CE9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62F-CDB8-4743-9788-05B8AC54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8A93-3F3D-428F-8413-6C3C8601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215D6-CB37-49F0-8B06-BACD43C933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