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08792"/>
        <c:axId val="87241588"/>
      </c:barChart>
      <c:catAx>
        <c:axId val="97508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41588"/>
        <c:crosses val="autoZero"/>
        <c:auto val="1"/>
        <c:lblAlgn val="ctr"/>
        <c:lblOffset val="100"/>
        <c:noMultiLvlLbl val="0"/>
      </c:catAx>
      <c:valAx>
        <c:axId val="87241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08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4D1-619F-4219-A651-B5998A6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283-2506-4BAD-B08F-C075B2A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77E-F5AF-4207-A60C-FAC962C8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E54-C6C8-4230-8EC5-7C4E81B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2F6-524E-4930-BA35-518DE062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01B-61A2-4F9A-96A5-DE81232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D8D-64D7-4EF4-BEEC-5E2A2E6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259-FECC-4070-AE19-E7CEDEE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467-41DC-4BEA-87BB-FDE1F8E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905-4921-46E3-97C0-00A11C8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642-9BDB-4781-A135-D49BBA4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25F-FA9D-4A46-897E-8BD5A9B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4EC93-8762-4499-91D6-835B13762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